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2CBA0-0268-44C1-8543-B192CE9E8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1DC62-5210-45C4-B171-77FF3F98F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e leveraging to a new level, where most of the resources and activities are leverages and only the adjustments are spe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71BC5-9C4C-4FA4-86F0-C224D9AB3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B2A7F-F29A-4708-B928-3452ADC5A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CD7-C52C-4B0A-ACC9-09881AB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09E-8A21-4CE4-8BE7-5AE1E6B1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51D-2A49-4122-A646-F0E0E89C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971-21D0-4705-BF72-2BEABA51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D94-CD80-4563-B481-42ACB269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0A4-C1C8-44CD-9B3B-2D6E526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C68-FD6F-42E9-AD10-EF9B878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D80-7305-406B-A6F1-627523C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D62-FE1F-4537-A263-1FDF7A8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379-A3B4-425C-852E-2C4DBBF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D5-1FD5-4F90-9797-E8DEAF1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5E4-96E7-4A98-A74B-6924C15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60515-2F29-4D4B-A0EA-55052E331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27EAC-0F2E-438C-A3F3-924179309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mispheric Transport of Air Pollutant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merging HTAP Data Net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AP Network-1.pn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02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1676160"/>
            <a:ext cx="2819520" cy="1981080"/>
          </a:xfrm>
          <a:prstGeom prst="rect">
            <a:avLst/>
          </a:prstGeom>
          <a:solidFill>
            <a:srgbClr val="dce6f2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ovanni, NASA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ISGEI, Northr.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S, CIRA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Fed, WashU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IG, EPA, U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572000" y="1676520"/>
            <a:ext cx="2743200" cy="1828800"/>
          </a:xfrm>
          <a:prstGeom prst="rect">
            <a:avLst/>
          </a:prstGeom>
          <a:solidFill>
            <a:srgbClr val="dce6f2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Z Juelich,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R,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LU, Norv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mispheric Transport of Air Pollutants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TAP Data Network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1523880"/>
            <a:ext cx="838224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OSS is a good (system of systems) model for HT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ar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ganizations, scien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is largel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gration is key to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HTAP is a suitable use case for the emerging GE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28600" y="4876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AP Model Data Server Projec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Software co-developed by FZ Juelich  - WashU DataF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ibuted to GEOSS, etc…through open SourceForg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Z Juelich server offers 1000+ HTAP model ‘datasets’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CS–netCDF–CF Standard Protoco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Z Juelich &amp; WashU Co-developed WCS Server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228600" y="2590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YOUR client, e.g Giovanni, software can also access any HTAP model ‘datasets’, perform your types of analy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4920" y="5638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ata the tools and the methods are shared to the Community through the AQ Co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participants of this project automatically become members of AQ Co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d Data System</a:t>
            </a: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ashU DataFed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ajor data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Surface Visibility, 1945- (~10,000 s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ASOS 1 min Visibility (~800 S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OMI Set 2004- (30 Variables, 30km r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MODIS AOT, 2001- (daily 10 km) </a:t>
            </a: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THROUGH RSIG!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All exposed through WCS, GEOSS Catalog, uFIN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Syste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AP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al Events Data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Projects contributed WCS software, uFIND to GE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5:17:32Z</dcterms:created>
  <dc:creator>Rudy Husar</dc:creator>
  <dc:description/>
  <dc:language>en-US</dc:language>
  <cp:lastModifiedBy>Rudy Husar</cp:lastModifiedBy>
  <dcterms:modified xsi:type="dcterms:W3CDTF">2010-07-21T15:55:26Z</dcterms:modified>
  <cp:revision>2</cp:revision>
  <dc:subject/>
  <dc:title>Hemispheric Transport of Air Pollutants Emerging HTAP Data Network</dc:title>
</cp:coreProperties>
</file>